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7596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1000" y="1212840"/>
            <a:ext cx="7230960" cy="539640"/>
          </a:xfrm>
          <a:prstGeom prst="rect">
            <a:avLst/>
          </a:prstGeom>
          <a:solidFill>
            <a:srgbClr val="003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80" y="6480"/>
            <a:ext cx="10272600" cy="1199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828440"/>
            <a:ext cx="8743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The Days of the Judg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81360" y="3733920"/>
            <a:ext cx="472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rter 3, Lesson 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dges 17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ges 115-1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y Worshiped At The Shrine In Dan Until The Captivit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9020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is The Assyrian Captivity?  (18: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Time The Tabernacle Was In Shiloh   (3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rk Was Taken Away In The Days of Eli &amp; Samuel   (1 Sam. 4-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cord of Tabernacle Staying In Shiloh After This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May Have Been Another Brief Captivity During The Period of the Jud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Migration of the Danit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ons of Religion and Life With No Com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Every Man Does What Is Right In His Own Eyes – 17: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Is Believed To Approve What We Appro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pprove of Statues &amp; Images, We Think God Appro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se Two Chapters We See How This Mentality Worked In Isr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icah and His Idol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17:1-13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40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a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Ephraim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 A Religiously Confused M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e Stores Images In His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 a Shrine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dicates a Son As Pri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ter, Supports A Levite To Be His Pri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haps This Makes The Idolatry Have A Sense of Legitim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48240" y="1752480"/>
            <a:ext cx="4838760" cy="510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5524560" y="3733920"/>
            <a:ext cx="129528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phrai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6134040" y="4495680"/>
            <a:ext cx="11430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3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3960" y="2133720"/>
            <a:ext cx="8639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econd census taken, Dan was the second largest tribe with 64,400 men twenty and older.  (Num. 26:42-43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ibe of Dan was the last to be assigned land.  (Josh. 19:4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forced into the mountains by the Amorites.  (Judges 1:3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son will later come from a family who was of the remnant of Dan.  (Judges 18: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6204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Information about the tribe of D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3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Danites Learn of The Priest At Micah’s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sk His Blessings In Seeking A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urvey Laish And Find It Att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622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314880" y="1143000"/>
            <a:ext cx="6972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305240" y="2860560"/>
            <a:ext cx="1363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ish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>
            <a:off x="5829480" y="3429000"/>
            <a:ext cx="914400" cy="2286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790280" y="1294920"/>
            <a:ext cx="2590920" cy="17528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028880" y="1294920"/>
            <a:ext cx="68580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95760" y="380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Ephraim To 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Meanwhile, The Danites Seek A New Home – 18:1-21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924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ve Danites Learn of The Priest At Micah’s 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sk His Blessings In Seeking A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urvey Laish And Find It Att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Return Home And Recommend The Taking of Laish For A Home Place   (8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d 600 Men of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Way They Carry Off Micah’s Priest &amp; Idols    (11-2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icah’s Response – 18:22-26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and His Friends Pursue The D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Returned Home After Being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120" y="759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Danites Take Laish – 18:27-31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40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ed the 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t Their Own City, D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e Jonathan and His Sons Their Pri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Up The I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petuate The Ignorance And Will-Wo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62640" y="1143000"/>
            <a:ext cx="358164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62640" y="3886200"/>
            <a:ext cx="358164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762440" y="2133720"/>
            <a:ext cx="15242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tress Walls &amp; Gates of D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haps Built In Days of Ah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2T19:14:18Z</dcterms:created>
  <dc:creator>Jerry Feil</dc:creator>
  <dc:description/>
  <dc:language>en-US</dc:language>
  <cp:lastModifiedBy>Frank D Vines</cp:lastModifiedBy>
  <cp:lastPrinted>31144-05-17T21:17:18Z</cp:lastPrinted>
  <dcterms:modified xsi:type="dcterms:W3CDTF">2005-03-13T05:14:02Z</dcterms:modified>
  <cp:revision>14</cp:revision>
  <dc:subject/>
  <dc:title>title</dc:title>
</cp:coreProperties>
</file>